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2BC-DE71-42D9-A4E3-74062E6A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C29-284F-4D36-87BB-BD123976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881-804F-431B-B8B9-F81570DA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C8E-8F62-47BB-8403-176C73AC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5E5-E969-4409-AD01-DAE1A3AC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6BA-D4D8-45AC-A971-91A77C3F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098-2325-4C40-85F3-BC9EC8D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130-4DA8-44A6-B76A-AA77318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FE7-5520-4990-B0F7-20278A76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8C8-4C12-4537-945D-9C9F4A4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315-BA12-4E4E-A17A-C43A5F4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11D-F6E1-49B3-8535-72D0347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B897-6089-4EE8-9179-EBE48C363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 инженерно-геологического отч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Organization Chart 8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1028"/>
            <p:cNvCxnSpPr>
              <a:stCxn id="44" idx="0"/>
              <a:endCxn id="45" idx="2"/>
            </p:cNvCxnSpPr>
            <p:nvPr/>
          </p:nvCxnSpPr>
          <p:spPr>
            <a:xfrm flipV="1" rot="16200000">
              <a:off x="5562000" y="2421360"/>
              <a:ext cx="899280" cy="288072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1029"/>
            <p:cNvCxnSpPr>
              <a:stCxn id="47" idx="0"/>
              <a:endCxn id="45" idx="2"/>
            </p:cNvCxnSpPr>
            <p:nvPr/>
          </p:nvCxnSpPr>
          <p:spPr>
            <a:xfrm rot="16200000">
              <a:off x="4122000" y="3861720"/>
              <a:ext cx="8992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30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681640" y="2421720"/>
              <a:ext cx="899280" cy="28803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1031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 ОТЧЕ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ЕКСТОВ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ЕКСТО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34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РАФИЧЕСК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ЛОЖ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идрогеологически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истика основных водоносных горизонтов, влияющих на условия строительства и(или) эксплуатацию предприятий, зданий и сооружений: положение уровня подземных вод, распространение, условия залегания, источники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ецифические гру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ав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фические гру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водится описание различных видов специфических грунтов, которые могут оказать серьезное влияние при строительстве и эксплуатации сооружения. Под специфическими грунтами подразумеваются такие, к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емерзлы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адочны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ухающи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оминеральные и органически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оленны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ювиальны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генные гру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ские водонасыщенные грунты шельфов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ологические и инженерно-геологическ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лав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еологические и инженерно-геологические процес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одится описание опасных геологических процессов замеченных или предполагаемых на территории изысканий, таких к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стовые и суффозионные проце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лоновые проце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ы переработки берегов рек, озер, морей и водохранилищ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ы подто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йсмические проце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женерно-геологическое райо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женерно-геологическое райониров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яют по заданию застройщика или технического заказчика, на основе материалов инженерно-геологической съемки; в раздел включают обоснование и характеристики выделенных таксонов на карте инженерно-геологического районирования. Для районов распространения многолетнемерзлых грунтов раздел, как правило, содержит результаты инженерно-геокриологического районирования. В разделе могут содержаться рекомендации по строительному осво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 по результатам выполненных инженерно-геологических изысканий и рекомендации для принятия проектных ре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кстовые приложения к техническому отч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кстовые приложения к техническому отчету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держ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у рабо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ртификаты, свидетельства и допус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лицы и графики лабораторных определений показателей свойств грунтов и химического состава подземных вод с результатами их статистической обработки(по материалам изысканий прошлых лет и другим источника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лицы результатов геофизических и полевых исследований грунтов, стационарных наблюдений и других работ, в случае их выполнения (по материалам изысканий прошлых лет и другим источника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 точек наблюдений (или их результаты в иной форм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талоги координат и отметок выработок, точек зондирования, геофизических исследований и, при необходимости, другие материалы (по материалам изысканий прошлых лет и другим источника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афические приложения к техническому отч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ту фактического материала в целом по объекту или отдельных участков проектируемых зданий и сооружений или их групп с указанием их контуров и экспликации в соответствии со схемой генерального плана застройщика или технического заказч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ту инженерно-геологических условий с таблицей характеристик выделенных таксо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ту инженерно-геологического районирования (по заданию застройщика или технического заказчи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еологические и инженерно-геологические разрезы (в том числе по материалам изысканий прошлых лет и другим источник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онки или описания горных выработок(в том числе по материалам изысканий прошлых лет и другим источник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женерно-геологические разрезы по каждому участку отдельно или по ряду участков проектируемых зданий (сооружений)с указанием на них их контуров и подземной ча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ки зондирования, материалы обработки результатов полевых исследований грунтов, опытно-фильтрационных работ, геофизические разрезы и графики, графики стационарных наблюдений и другие графические материалы выполненных рабо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ьные карты(при необходимости) использования территории, техногенной нагрузк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трассам линейных объектов прилагаются продольные профили с нанесенными на   них   инженерно-геологическими данными. На участках индивидуального проектирования, как правило, составляют паспорта сооружений. Колонки или описания геологических выработок,  вошедшие в продольные профили, не прикладыв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 составлении графической части технического отчета следует применять условные обозначения в соответствии с ГОСТ 21.3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ов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 ИЗУЧЕННОСТЬ ИНЖЕНЕРНО-ГЕОЛОГИЧЕСКИХ УСЛОВИЙ УЧАС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2 ОБЪЕМЫ И ВИДЫ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3 ФИЗИКО-ГЕОГРАФИЧЕСКИЕ И ТЕХНОГЕННЫЕ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4 ГЕОЛОГИЧЕСКОЕ СТРО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ВОЙСТВА ГРУ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5 ГИДРОГЕОЛОГИЧЕСКИЕ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6 ИНЖЕНЕРНО-ГЕОФИЗИЧЕСКИ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7 СПЕЦИФИЧЕСКИЕ ГРУ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8 ИНЖЕНЕРНО-ГЕОЛОГИЧЕСКИЕ ПРОЦЕССЫ И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9 ВЫ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0 МЕТОДИКО-МЕТРОЛОГИЧЕСКОЕ ОБЕСПЕЧЕНИЕ ИЗЫСК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1 СПИСОК 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овые при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 Техническое задание на производство инженерно-геологических изыск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2 Разрешение службы ГЕОНАДЗОРА на производство инженерно-геологически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3 Свидетельства о допуске к работам и свидетельство соответствия лаборатор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4 Сравнительная таблица нормативных значений прочностных и деформацио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истик гру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5 Ведомость результатов анализа физико-механических свойств гру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6 Таблица результатов статистической обработки лабораторных определен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истик грунтов по инженерно-геологическим элемента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7 Результаты испытания грунта методом компрессионного сжат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8 Результаты испытания грунта методом одноплоскостного срез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9 Таблица значений характеристик по результатам испытаний стат. зондир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0 Результаты химического анализа гру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1 Результаты химического анализа в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2 Результаты штамповых испытаний гру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3 Оценка потенциальной подтопляемости территор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4 Каталог координат и высот геологических выраб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15 Сведения о методах и средствах измер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е при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1 План расположения разведочных выработок и линий инженерно-геологических разрез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2 Условные обо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3 Инженерно-геологические разр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4 Инженерно-геологические колонки скваж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ание для производства изысканий, задачи инженерно-геологических  изысканий, местоположение района (площадок, трасс, их вариантов) инженерных изысканий, данные о проектируемом объекте, виды и объемы выполненных работ, сроки их проведения, методы производства отдельных видов работ, состав исполнителей, отступления от программы и их обосновани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ученность инженерно-геологических усло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, назначение и границы участков ранее выполненных инженерных изысканий и исследований, наименование организаций-исполнителей, период производства и основные результаты работ, возможности их использования для установления инженерно-геологических   усл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изико - географические и техногенны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е для оценочного инженерно-геологического районирования и принятия решений относительно строительного освоения: климат; рельеф; геоморфология; гидрография; техногенные нагрузк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ологическое строение и свойства гру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атиграфо-генетические комплексы, условия залегания грунтов, литологическая и петрографическая характеристика выделенных слоев грунтов по генетическим типам, тектоническое строение и неотектоника, характеристика состава, состояния, физических, физико-механических и химических свойств основных типов грунтов и их пространственной изменчив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НЖЕНЕРНО-ГЕОФИЗИЧЕСКИЕ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еофизические исследования при инженерно-геологических изысканиях являются самостоятельным видом работ .Они выполняются на всех стадиях (этапах) проектирования в сочетании с другими видами инженерно-геологических работ с цел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геологического строения массива горных пор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я тектонических нарушений, в том числе активных, зон повышенной трещиноватости и обводн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глубины залегания уровня подземных вод, водоупоров, направления движения потоков подземных вод, а также гидрогеологических параметров грунтов и водоносных горизо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состава, состояния и свойств грунтов в массиве и их изменений во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я и изучения геологических процессов и их изменений во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я мониторинга опасных геологических и инженерно-ге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смического микрорайонирования терр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еофизические методы по изучаемым физическим полям и их природе, а также свойствам грунтов подразделяю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магнит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смоакуст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метр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виметр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ерно-физ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во-эманацион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ометр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4-06-19T08:09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